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0FD-7489-4E85-B188-CAFA0D46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3B2-41E4-4321-85CF-A67C4CA4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253-EDDE-4C84-BC06-E3F4CBE3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5B6-5B04-405C-9818-3DCDB7BF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A546-C1CF-4F9C-97D1-60ADD098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D573-9850-4BFE-BA1D-4537F45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285C-3214-42B8-95DE-18640272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55E3-2858-4027-A378-2F79A2E9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6DE6-CF23-477C-9DD1-454D07B3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8693-DB42-4CAF-934B-6776A2A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9245-DA21-4864-9965-94939360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F5F-1283-4583-8D06-8CC30DB0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683E-5ADA-441D-920A-F87732F2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54BE-E896-4760-9C16-BA3596C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15E0-3008-4439-9F4B-1D2F08C2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89A0-3D67-491E-8394-C1A2E0A2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B89A-C16F-49DF-975E-716D4F60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EDD-2A07-435E-A158-EFF391C6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2D6-EEE0-4F73-A8EA-B820F609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38D-0A1B-4152-BF96-D1B143BF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98A-9F22-4932-8C45-E7A2FA8C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4E3-1204-4F22-8B87-32934CB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F22-D6D6-4BE6-9660-3D5BA80E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0E7-F0DE-43B8-A6CA-A68A999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120C-961E-4F5C-A394-69DE52E7A6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B713-B794-4FE9-9094-FB6427F9FF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Превенција поремећаја здрављ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Мере примарне превенције усмерене 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шту популацију (потреба за физичком активношћу која одговара узрасту)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им њеним сегментима (вакцинација одојчади или заштита деце школског узрас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за што раније откривање већ насталих поремећаја здравља (откривање особа са већ узнапредовалом болешћу који су измакли пажњи здравствене служб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: успостављање нарушеног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нижавање преваленције одговарајуће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олели (жртве болести) тј. повређене осо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рининг, самопреглед, систематски  прегле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секундарне превенције се прелиминар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двајају особе за које постоји сумња да су оболеле (дефинитивна дијагноза је у домену клиничке медицин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толошки процес је већ одмака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о излечење више није могу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Мере терцијарне превенције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719360"/>
            <a:ext cx="7924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оштећења и неспособности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рехабилитације и навикавање пацијента на настало ст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нижава се учесталост компликација и умир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жртв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довни контролни прегле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хабилитација (физичка и психич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да проте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ремећаји здравља од којих се данас највише оболева и умир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рди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еребр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алигне неоплаз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рауматиз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структивна болест плу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Личне навике и начин живота које утичу на учесталост најчешћих поремеђаја здрављ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ше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храна богата мастима животињског поре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еран унос алкохо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суство физичке а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изична вож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ронични стр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учне основе, дилеме и ограничења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пидемиолошка истраживања (интервентне или опсервационе студиј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снов за одлучивање о избору превентивн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знања о факторима ризика за настанак најважнијих поремећаја здравља (болести срца и к. судова, малигне неиоплазм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ктивности и мере везане 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напређе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чува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спостављање здравља које је наруше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пречавање или одлагање неповољног тока и исхода иреверзибилних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ратегија превентивног ра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гменти (у оперативном погледу) превентивне дела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. сагледавање епидемиолошке ситу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2. интер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евалуација ефикасности интервенциј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Сагледавање епидемиолошке ситуације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ид у стање и динамику расподеле болести и здравља у попула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е системом епидемиолошког надз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лив поузданих информација важ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уга традиција праћења заразних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ложеност макро и микро срединским ризици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пажње само на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ајугроженије сегмент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опулациј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даје ефек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нат оболевања је највећи у групи особа најизложенијих одређеном штетном фактори, али је учешће те групе у структури те популације ма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јвећи број оболелих се региструје из категорије грађана који имају 5 х нижи ризик али којих је 20 х ви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и редовно лечење свих хипертоничар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→инциденција апоплексије би се смањила за 1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росечно снижење хипертензије за 5 % → инциденција апоплексије опада за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553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315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Борба против поремећаја здравља пре њиховог клиничког испоља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тивна медиц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 се на поступке који су у опсегу здравствене сл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емиопрофилак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блем клицоно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болести скринин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штита вулнерабилних група становни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Јавно здравство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евентивна делатност која је у надлежности целе друштвене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ивање микробиолошки и хемијски исправне воде за пи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езбедан систем одвођења и третирања отпадних во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игијенско уклањање сме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рба против аерозагађења и бу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ола производње, ускладиштења и промета животних намир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ржавање екосистема у стању равноте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ивои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рциј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пори да се у одређену средину уопште не унесе штетна навика, обичај или облик понаш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ходи превен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група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оизашла из епидемиолошких сазнања 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исокој учесталости КВБ у деловима света где исхрана садржи много масти животињског порекла (Финс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иској учесталости КВБ у подручјима где су засићене масти мање заступљене у исхрани (Јапан-чест висок притисак и други фактори ризика за КВ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упци који се предузимају пре појаве болести и повреда како до њих уопште не би дош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ктивности усмерене ка унапређењу и очувању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примарне превенције снижава се инцид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0T07:19:0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