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6B2-79E8-45AD-8E2E-60BBF26F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9D7-F49D-4D1F-B997-2A771E87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289-5D43-4579-B5CC-CD2E3CF8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925-2917-4AE5-BD67-FB0ED463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23B3-9012-40B8-86E6-9FB36A1C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0431-901E-484D-8392-589E6069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D3D1-FCB0-4E38-8F73-67FE5530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2709-2396-47A5-A62B-47728C61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BEE9-4C62-4F92-8B50-8F85AF7F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4A43-229D-45AC-A0CF-0859A199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6D3D-ACCE-44A5-87E5-478303EF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B0A-CE3C-46BD-A60E-4E1D93B1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FBCE-0377-40BA-85D2-5A586C35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544B-EBF9-42DD-A86D-05F6C3C4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9DC3-F66D-48CC-92FB-2C9B032D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A3FF-4515-440C-8343-C919DEB7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3270-8EA4-43DF-ACC5-F138AD78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3B3-9A6D-4BAF-806D-A3BBC5BD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D58-072D-40AE-92E2-8B969F86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0D9-C42E-483A-8FEE-50D9F75D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DE0-CF21-4F78-A55E-81E5221D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63A-3B20-40AE-AEC3-02CC62BD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A65-2958-41BF-8886-4A738CE1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7CE-BA3B-4B89-B7C7-6B7DA63F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35B5-E502-427F-BB02-B19186939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7E2E-735C-4ABD-950C-E66EABEA943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700" spc="-1" strike="noStrike">
                <a:solidFill>
                  <a:srgbClr val="ffffcc"/>
                </a:solidFill>
                <a:latin typeface="Arial"/>
              </a:rPr>
              <a:t>Превенција-ниво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Акт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(подразумева промене понаша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Коришћењ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штитних средстава на рад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Примена вакцина у превенцији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не захтева промену понашања, једноставнији за спровођење)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флуоризација вод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додавање витамина појединим намирницам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нижење инциденције болести контролом узрочних фактора (фактора ризик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имарна превенција зависи од промена у понашању већин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Роузова “теорема”- изложеност великог броја људи малом ризику може довести до много више оболелих него изложеност малог броја људи високом ризик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Стратегије примарног нивоа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опулацио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Индивидуал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едност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3270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појединац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груп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cc"/>
                </a:solidFill>
                <a:uFillTx/>
                <a:latin typeface="Arial"/>
              </a:rPr>
              <a:t>Недостатак</a:t>
            </a: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 мора да буде од велике користи појединцу, с обзиром на низак степен његовог индивидуалног ризи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вентивни парадокс 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ка превентивна мера доноси велику корист популацији, не мора истовремено да користи сваком њеном појединачном члан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екундарна превенција и 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Рано откривање болести и адекватна терап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Циљ: заустављање напредовања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Време примене: фаза патогенезе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Ефикаснија код обољења која у природној историји имају период који се лако открива и леч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Спречава прогресију обољења у озбиљне стадијуме у којима су терапијске могућности мал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Услови који треба да буду испуњени да би секундарна превенција била ефикас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игуран и безбедан метод откривања болести (ако је могуће у преклиничкој фаз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Ефикасан метод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Терцијарна превенција-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: смањење неспособно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имена епидемиолошких истраживања у области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зналажење могућности за ефикасну интервенцију у појединим 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Arial"/>
              </a:rPr>
              <a:t>фазама природног тока болест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развој болести од почетних фаза до исход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Опоравак, неспособност, смртни исх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икупљање информација које имају за циљ сагледавање учесталости и дистрибуције болести и здравља у популациј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снован 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индивидуал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пулацио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мбинацији оба (са етичког аспекта најприхватљивиј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нтинуирани проце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утиче на предлагање нових мера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утински подаци здравствене статистик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азличити типови епидемиолошких студиј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требна због процене њихове оправданост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дразумева однос уложених средстава и очекиваног ефекта на здравствено стањ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Нивои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6705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ордијал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Секунд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Терцијарн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тходи или се поклапа са примарним нивоом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оследица је пораста укупног знања у области изучавања етиологије не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Циљ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пречити да се у некој популацији успоставе обрасци понашања у социјалној, економској и културној сфери живота који доводе до повећања ризика од појаве поједи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Arial"/>
              </a:rPr>
              <a:t>Примар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едуз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умева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низ мера и поступака у периоду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-смањење могућности за појаву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Здравствено васпитање о штетности појединих факт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дувана (фактор ризика за малигне туморе, КВБ, респираторна обоље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прекомерне употребе алкохо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значају коришћења неких намирница (воће и поврће) које имају заштитну улогу у етиологији неких обољењ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вакцинама против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Акт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0T07:29:4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