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5BC-880C-47F7-83A9-B93E8DAA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521-4669-4791-8B07-DF61D1D6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64A-C79B-4E20-9BEB-5B36BD46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5AA-F310-4D65-9700-C0AE8318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575F-17FE-4F72-9888-095FED34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B5BF-FC76-46D6-AE72-CA5A3219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3E93-1148-4273-B641-CCB50F18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43E2-80E3-4096-A329-0F2B081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56BD-1639-401A-8C0A-ACA81ED4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EB8D-181C-4EF1-8FBC-ED4064B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63FE-AA38-4F10-8788-FD3F0C19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91B-7E68-4FD2-84F8-78E098C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DDD8-0A9C-4008-9AB4-35EACB5F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D018-77AB-42DC-87E3-FA2DD024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3FA5-A78C-4413-AEE2-80660D1E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EB58-517B-4295-ACAC-266CCBF9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2EBD-2E04-409F-8B4F-3E89BD1C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E45-E1B8-4ECE-BCA2-B7A6B6A4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806-33AF-45AB-ACFA-D3CCAC6D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1BE-4213-44EC-A30B-7E92AD5B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8B4-826E-44F7-94E8-2DADCB81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FFF-7E51-4480-AB69-DD3C204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0C8-B75C-427B-A35A-4489A80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7C4-7D77-4043-998A-563878C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C17B-6664-4A84-A4F5-01755E9664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45B1-DFE0-4EDE-B7D3-07C59583C0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А ИМУНИЗАЦИЈ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КУЛТЕТ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ДИЦИНСКИХ НАУ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БАКТЕРИЈСКИ серум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стрептококни, антипнеумококн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менингокок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наласком сулфонамида и антибиотика губе знача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имунизацију животиња користиле су се бујонске културе или суспензије мртвих или атенуисаних бактер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ТИВИРУСНИ серу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 беснила (анималног порекл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ијен из крви имунизованих коњ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ета готова Ат врше неутрализацију узрочника и успоравају његов пут до Ц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ас замењен хуманим хиперимуним гамаглобули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сивна профилакса од беснила обавезна за лица изложена инфекцији вирусом беснила (дефинисана Правилник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ТИТОКСИЧНИ серу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 према токсинима различитих бактеријских или животињских вр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 дифтерије, ботулизма, гасне гангрене, змијског уједа, отрова паукова, шкорпиона, отровних риб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ТИТОКСИЧНИ серу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ступак добијања антитоксичног серум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мунизацијом коња, употребом самог токсина или вакцине са антитоксичним антиге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ТЕТАНУСНИ серум (антитоксични серум)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 користио с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пасивној имунизацији (серопрофилакса) и терапији обољења (серотерапиј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илактичко дејство антитоксин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еутрализација слободног токсина у крвото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ема утицаја на токсине везане за тк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вао се што брже, у довољним количина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07084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aeaea"/>
                </a:solidFill>
                <a:uFillTx/>
                <a:latin typeface="Tahoma"/>
              </a:rPr>
              <a:t>АНТИДИФТЕРИЧНИ серум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истио се у профилакси и терапији (нпр. деци која нису вакцинисана, а била су у контакту са оболелим дати 5-10000 АЈ и започети вакцинациј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биотска терапија не делује на излучени токсин већ само на проузроковач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aeaea"/>
                </a:solidFill>
                <a:uFillTx/>
                <a:latin typeface="Tahoma"/>
              </a:rPr>
              <a:t>АНТИДИФТЕРИЧНИ серум </a:t>
            </a:r>
            <a:br>
              <a:rPr sz="3200"/>
            </a:br>
            <a:r>
              <a:rPr b="1" lang="ru-RU" sz="3200" spc="-1" strike="noStrike" u="sng">
                <a:solidFill>
                  <a:srgbClr val="eaeaea"/>
                </a:solidFill>
                <a:uFillTx/>
                <a:latin typeface="Tahoma"/>
              </a:rPr>
              <a:t>(у профилакси и терапији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 1981. не региструјемо дифтерију у нашој земљ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љење је очекива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у подручјима са недовољно развијеном здравственом служб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од пропуста у спровођењу активне имуниза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БОТУЛИНСК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И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серум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 се ретко корист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тулизам је ретка и тешка интоксика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рум се користи у терап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ивалентни серум А, Б, Ц → идентификација типа клостридијума → моновалентни сер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Један случај тровања → све особе које с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зумирале недовољно сушено или сољено месо профилактички примају сер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ГАНГРЕНОЗНИ серу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4560" y="148428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сна гангрена је у рату најважнија инфекција ран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терапији обољења поливалентни сер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руршка обрада ра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сигенација тк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биотиц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АНТИВИПЕРИНИ серум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(против змијског уједа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мијски отрови или њихови детоксиковани препарати су антигени за добијање анималног серу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неутрализацију змијског токс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терапији после ује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соко специфични против отрова једне врсте зм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Пасивна имунизациј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ИМУН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СПЕЦИФИЧНИ                     СПЕЦИФИЧ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КТИВН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СИВ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▪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родн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▫ Природ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оболевање)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трансплацентар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▪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ештачк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▫ Вешта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вакцинација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еру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мани имуноглобул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7"/>
          <p:cNvSpPr/>
          <p:nvPr/>
        </p:nvSpPr>
        <p:spPr>
          <a:xfrm rot="1868400">
            <a:off x="4787640" y="1699920"/>
            <a:ext cx="1296720" cy="144360"/>
          </a:xfrm>
          <a:prstGeom prst="rightArrow">
            <a:avLst>
              <a:gd name="adj1" fmla="val 50000"/>
              <a:gd name="adj2" fmla="val 22456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8"/>
          <p:cNvSpPr/>
          <p:nvPr/>
        </p:nvSpPr>
        <p:spPr>
          <a:xfrm rot="8874000">
            <a:off x="2986920" y="1699560"/>
            <a:ext cx="1297080" cy="144360"/>
          </a:xfrm>
          <a:prstGeom prst="rightArrow">
            <a:avLst>
              <a:gd name="adj1" fmla="val 50000"/>
              <a:gd name="adj2" fmla="val 22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9"/>
          <p:cNvSpPr/>
          <p:nvPr/>
        </p:nvSpPr>
        <p:spPr>
          <a:xfrm rot="19816800">
            <a:off x="4788000" y="2636640"/>
            <a:ext cx="718920" cy="144360"/>
          </a:xfrm>
          <a:prstGeom prst="leftArrow">
            <a:avLst>
              <a:gd name="adj1" fmla="val 50000"/>
              <a:gd name="adj2" fmla="val 124501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0"/>
          <p:cNvSpPr/>
          <p:nvPr/>
        </p:nvSpPr>
        <p:spPr>
          <a:xfrm rot="12771000">
            <a:off x="6227640" y="2636640"/>
            <a:ext cx="719280" cy="144360"/>
          </a:xfrm>
          <a:prstGeom prst="leftArrow">
            <a:avLst>
              <a:gd name="adj1" fmla="val 50000"/>
              <a:gd name="adj2" fmla="val 12456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ХУМАНИ ИМУНОГЛОБУЛИНИ (гамаглобулини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еинска фракција серума са предоминацијом глобулина класе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g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држе антивирусна, антибактеријска и у мањој мери антитоксична 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  стандард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.  хипериму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ТАНДАРДНИ гамаглобулини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ирогени, стерилни раство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плазме најмање 1000 здравих давалаца крви или из интактних плаценти здравих ж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кључено је преношење инфекције (вирусни хепатитис А, Б и Ц, ХИВ инфекција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облику 16% раствора садржи најмање два Ат (једно антивирусно и једно антибактеријск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центрација Ат је 25 пута већа од концентрације материјала из кога потич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964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ТАНДАРДНИ гамаглобулин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во Ат и њихов међусобни однос зависи о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ширености болести у популац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ухвата становништва вакцинациј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ТАНДАРДНИ гамаглобулин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кација за гамаглобулинску профилакс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спозиција осетљивих неимуних особа (морбили, вирусни хепатитис А, рубела, варичела, паротитис)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ahoma"/>
              </a:rPr>
              <a:t>ПАСИВНА ЗАШТИТА КОД МОРБИЛ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уноглобулини дати у првих 6 дана од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ложености инфекцији спречавају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икације: деца у непосредној опасности од обољења, а постоје контраиндикације за вакцинацију или је прошло 72 часа од изложености (у прва три дана може се дати вакци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штита породичних контаката и контаката насталих у болницама и дечјим установ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ПАСИВНА ЗАШТИТА КОД МОРБИЛ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репоручује се </a:t>
            </a:r>
            <a:r>
              <a:rPr b="1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лица која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нису прележала или нису вакциниса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против малих богиња, а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била су у контакт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са оболелим и 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имункомпромитованих код којих постоји трајна </a:t>
            </a:r>
            <a:r>
              <a:rPr b="0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контраинди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за вакцину против малих боги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трудн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Пасивна имунизација се спроводи у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периоду до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Tahoma"/>
              </a:rPr>
              <a:t>6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 дана након конта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cc3300"/>
                </a:solidFill>
                <a:uFillTx/>
                <a:latin typeface="Tahoma"/>
              </a:rPr>
              <a:t>П</a:t>
            </a:r>
            <a:r>
              <a:rPr b="1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репарат садржи </a:t>
            </a:r>
            <a:r>
              <a:rPr b="1" lang="sr-CS" sz="2800" spc="-1" strike="noStrike" u="sng">
                <a:solidFill>
                  <a:srgbClr val="cc3300"/>
                </a:solidFill>
                <a:uFillTx/>
                <a:latin typeface="Tahoma"/>
              </a:rPr>
              <a:t>Ат</a:t>
            </a:r>
            <a:r>
              <a:rPr b="1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 против малих богињ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aeaea"/>
                </a:solidFill>
                <a:latin typeface="Tahoma"/>
              </a:rPr>
              <a:t>Пасивна профилакса код рубел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281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штитна вредност се оспо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Различите оцене деловања имуноглобулина потичу од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разлике у доз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разлике у садржају анти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разлике у времену које је протекло од момента изложености до његове приме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aeaea"/>
                </a:solidFill>
                <a:uFillTx/>
                <a:latin typeface="Tahoma"/>
              </a:rPr>
              <a:t>ПАСИВНА ПРОФИЛАКСА КОД ВАРИЦЕЛЕ И ПАРОТИТИС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спречавању интрахоспиталних инфекција на дечјим одељењ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ПАСИВНА ПРОФИЛАКСА ПОЛИОМИЈЕЛИТИС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 увођења ефикасне вакцине редуковала стопу секундарних случајева међу изложен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крви особа које су вакцинисане против одређених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ести па је ниво специфичних Ат веома вис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ани хиперимунигамаглобулини против тетануса,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нила и вирусног хепатити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и имунит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  <a:ea typeface="Tahom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д специфичне отпорности који настаје уношењем готових антитела природним или вештачким пут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е бит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ирод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ешта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сивна профилакса од ТЕТАН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0 иј. антитетанусног имуноглобу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ндикаци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лица која су потпуно вакцинисана и ревакцинисана против тетануса за свој узраст, а од последње дозе до повреде је прошло више од 10 год. одмах по повређивању добијају 1 дозу вакцине и 250 и.ј. гамаглобу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Правилник о Програму обавезне и препоручене имунизације становништва против одређених заразних болести (СЛ. гласник РС. бр 65/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ндикаци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лица која нису вакцинисана или су непотпуно вакцинисана или немају доказе о имунизацији против тетануса добијају три дозе антитетанусне вакцине 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ahoma"/>
              </a:rPr>
              <a:t>хиперимуни антитетанусни гамаглобулин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ahoma"/>
              </a:rPr>
              <a:t>са првом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дозом вакц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Правилник о Програму обавезне и препоручене имунизације становништва против одређених заразних болести (СЛ. гласник РС. бр 65/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ahoma"/>
              </a:rPr>
              <a:t>ХТИг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је се повређеним лиц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нису вакцинис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су непотпуно вакцинис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немају доказе о имунизациј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су потпуно вакцинисана или ревакцинисана за свој узраст, а од последње дозе (вакцинације или ревакцинације) до повреде је прошл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10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 доза: 250 И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 ХТИг и вакцина се дају на различита мес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сивна профилак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Н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 иј/кг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елесне тежин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антирабичног имуноглобулина (1/2 у околину ране, 1/2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 мишић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 складу са вакциналним статусом започети заштиту од тетан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06472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сивна профилак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Н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(заштита особа повређених од бесне или на беснило сумњиве животињ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Tahoma"/>
              </a:rPr>
              <a:t>Истовремено са давањем прве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дозе вакцине против бесн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Једнократно дати хумани антирабични гамаглобулин (20 иј/кг телесне тежин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915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сивна профилакса о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ИРУСНОГ ХЕПАТИТИСА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ворођенчад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BsA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озитивних мајки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, одмах по рођењ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евакцинисана или непотпуно вакцинисана лица која су имала акцидент са инфективним материјал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мах по рођењу, односно акциденту, у количини коју препоручује произвођа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мах по утврђеној индикацији за имунопрофилаксу истовремено дати и прву дозу вакцине у супротан екстремит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304920"/>
            <a:ext cx="691344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едности</a:t>
            </a:r>
            <a:r>
              <a:rPr b="1" lang="sr-CS" sz="4000" spc="-1" strike="noStrike">
                <a:solidFill>
                  <a:srgbClr val="eaeaea"/>
                </a:solidFill>
                <a:latin typeface="Tahoma"/>
              </a:rPr>
              <a:t> у заштити имуноглобулиним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суство реакције сензибилза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уже деловањ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рија елимина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нтрација опада за 1/2 сваких 24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штита се одржава неколико недеља или месе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784836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aeaea"/>
                </a:solidFill>
                <a:latin typeface="Tahoma"/>
              </a:rPr>
              <a:t>ОПРЕЗ у заштити имуноглобулиним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маглобулине намењене пасивној имунизацији дати искључиво интрамускулар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раваскуларна инокулација је акцидентал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и имунит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родни пасивни имунитет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ошењем Ат мајке (трансплацентарно од 3. месеца интраутериног живота и преко колострума у постнаталном животу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ада и нестаје после 5-6 месеци од рођењ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и имунит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штачки пасивни имунит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ошење серума и гамаглобулина (од имуних људи и животињ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а активног учешћа организма па овај начин стицања отпорности назива се пасивна имунизација или пасивна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офилак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асивна имунизација оправдана код</a:t>
            </a:r>
            <a:r>
              <a:rPr b="1" lang="sr-C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непосредне изложености опасности од инфекције када се: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и имунитет не изводи или је контраиндикова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аричела, мале богињ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а довољно времена за продукцију сопствених Ат извођењем активне имунизације (морби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порност успоставља комбинованом пасивно-активном профилаксом (тетанус, беснило, вирусни хепатитис Б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ahoma"/>
              </a:rPr>
              <a:t>Пасивна имунизациј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муни серуми (антисеру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Хумани имуноглобулини (гамаглобулин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стандард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хипериму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Имуни серуми (антисеруми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ракција крви која садржи Ат против одређених проузроковача (токси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чишћени и концентровани серуми анималног порекла садрже Ат против различитих бактерија и вируса и токсичних продуката неких бактеријских и животињских вр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69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Имуни серуми (антисеруми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ступак добијања имуних серум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ехником хиперимунизације животиња (коња најчешће) који обезбеђују велику количину крви и висок титар анти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9:43:28Z</dcterms:created>
  <dc:creator>User</dc:creator>
  <dc:description/>
  <dc:language>en-US</dc:language>
  <cp:lastModifiedBy> </cp:lastModifiedBy>
  <dcterms:modified xsi:type="dcterms:W3CDTF">2020-09-30T09:57:30Z</dcterms:modified>
  <cp:revision>37</cp:revision>
  <dc:subject/>
  <dc:title>Slide 1</dc:title>
</cp:coreProperties>
</file>