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2B0-E3B6-4708-95AB-D9043FC8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003-1B65-42C0-80DC-0E15182F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A73-4D2F-451F-BAF0-8CDC7E93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A93-BF22-4C1D-8783-CB542B3A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A76D-81FD-4C38-94D6-5E7F58CD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240B-C452-4B91-ABA2-0ED2779A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4F9C-C977-4ED7-9945-29B67DD6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69F0-3D47-40EB-86CE-608A0664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2B21-84C6-454E-BED1-F62D4E2C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EDCC-68FF-4F31-9ADA-52AE8186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3620-9B61-441A-9EDA-ABDD3D47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1BF-58FC-403C-9C51-7DDC189E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C8A6-6FBF-4C9B-9D6C-7850988E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83C9-81DC-43B2-BCDA-68EEE65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4618-714A-4550-846F-47AA751E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DF1B-F401-455C-BB35-78F4EB62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0799-C653-425C-B416-3CCBE205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42B-D5A2-4335-A1FB-4E291BD3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40C-7C1C-4D2C-BB5D-C364A95F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992-DEC9-4DD3-86E2-1F633220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956-FDFC-41E4-BA48-B4C96D96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273-4279-428A-968D-11341CE3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8E0-6D60-45E8-8FB0-85DE82BE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142-C97E-460D-9330-7F7AF23B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F860-A70D-4E74-838D-4B454B5D97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9255-A26F-4E17-83E7-8EE1414F1A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довно прање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довољну количину хигијенски исправне воде за све потребе (пиће, кување, купање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хигијенске услове за чување, транспорт и обраду намир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градња канализационе мр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декватно отклањање отпадних материја (комунални отпад, медицински отпад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фикасно сузбијање му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респиратор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363760"/>
            <a:ext cx="8229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пецифичне мере превенције респираторних заразних болести већег су значаја у односу на опште ме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заразе у превенцији респираторних болести код којих постоји хронично клицоноштво (дифтерија, шарлах и друге стрептококозе) тј. истраж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респиратор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пљ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груписања људи у затвореним просториј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ветрав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лажно чишћење простор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пољубаца са инфицираном особ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посуђа и прибора за је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и дезинфекција играчака (дечја обданиш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потреба папирних марам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маски (вишеслојн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рекривају нос и у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е носе се дуже од три сата (овлажене не дају заштит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акон употребе се бацај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икада се поново не кори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заштитних наоч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начајно у спречавању ширења респираторних обољења у болничкој среди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животи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иштавање глод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ч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мала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 Превенција болести које се преносе вашим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збијање вашљивости-елиминација пегавог тифу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 (маларија, жута грозница, денг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прскање инсектицидима просторија у којима се налазе људи и животи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исушивање влажних тере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заштита од вектора (мреже на прозорима и вратим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ношење репелената (одбијају инсекте) на кож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иљ: онемогућавање настанка услова за појаву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преко крпеља (Лајмска болест, крпељски менингоенцефалитис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бегавање кретања кроз високу тр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ошење дугих панталона и дугих рук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аскрчивање терена од густе вегетације при камповању и логорова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антропозооно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радња ветеринарске и здравствене служ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мањење учесталости оболевања код животи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нтрола промета животињ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Одржавање хигијенских услова у просторијама где се животиње др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Вакцин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Л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зависе од путева ширења односно од улазног места аген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6240" y="1913040"/>
            <a:ext cx="80038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Опш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пецифич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е односе се на једно одређено обољ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ристе се у спречавању појаве св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личне су за обољења која припадају истој групи (према епидемиолошкој класификациј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су према свим карикама ланца инфе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пецифичн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носе се на превенцију одређене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ухватај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кцинаци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ер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еми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ају највећи значај у превенцији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окривању резервоа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путевима преноше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(трбушни тифус, бациларна дизентерија)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у хуманој популац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даљавање клицоноша са радних места (запослени у производњи, преради и дистрибуцији хране или снабдевању становништва водом за пић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међу животињ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(клицонош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брана коришћења продуката оболел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сек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0T07:35:1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